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B48-FAAD-44DB-A91A-46906792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522-D61A-4994-A71E-BDBA0239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3FB-371E-4D81-99B7-BC552712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FB3-9CE1-44DE-AA71-8F9E9A71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29E3-9890-45CC-8DA1-2BB584C0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400C-ABF4-482D-859D-5A735558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D987-B207-4C6D-970D-AFD7A773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45A9-55E0-41BE-8007-01098921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2058-6CD4-4E59-A2DE-FB725481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0B8B-5D08-4A8E-9B3C-13B84E1F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6CD1-D693-47FC-BDDC-D3541F36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E69-9F73-4946-8119-985D2C62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CA25-D4C3-4C46-9D25-0C679FAF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3D55-2A3D-4CCF-B7D0-51366949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B8E1-2807-459F-A374-1C1540E3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0997-F25F-4F92-8739-1A2C6F16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EB88-DEC1-4E1B-8123-35F0D4A3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DCD-C781-4366-BD41-8CCA0A01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9D1-8D0E-4A5F-AA22-50234806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21F-68B7-45CB-865D-4DCB49DC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A76-9ABC-40FD-AC64-01712689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8A9-5B15-4F69-B805-CD7BFF54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F4F-E927-404D-A18E-2B79B47C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6C5-9B95-4A4A-9241-33575002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66D6-DA9F-48FA-8A5B-9F96842B54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5872-A10A-4BFB-BC9A-EF0F223FB4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year the number of woman marithon runners increased from seventy eight to four hundred and thirty tw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OL Ans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year the number of women marathon runners increased from 78 to 43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: If related numbers appear in the same sentence and some can be written out while others should appear as numerals, use all numerals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ewr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bout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cabulary practi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tried to ________ the team members to make a good eff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man was upset and seemed to only say 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n was trying to _________ himself to his boss, in an effort to get a ra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needs to __________ her gr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attitude is _________, he is so full of him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cabulary-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synonym for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mba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o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ri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 Kill A Mockingbird-Ch. 1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mood in Maycomb as the trial approach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Jem worried abou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es Jem think that something is wrong when Atticus le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hat reason do the men come to the j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Scout stop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your opinion of Atticus 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signment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he worksheet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e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chapters 16 and 17 for Mon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vocabulary for Fri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9:25:32Z</dcterms:created>
  <dc:creator>rebecca</dc:creator>
  <dc:description/>
  <dc:language>en-US</dc:language>
  <cp:lastModifiedBy>rebecca</cp:lastModifiedBy>
  <dcterms:modified xsi:type="dcterms:W3CDTF">2009-02-18T19:46:43Z</dcterms:modified>
  <cp:revision>2</cp:revision>
  <dc:subject/>
  <dc:title>DOL</dc:title>
</cp:coreProperties>
</file>